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A32-8C3C-47BA-AF57-E3565FF2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D66-3E2F-46E3-B180-EB3925A7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4FA-76DF-4EA1-BBD5-01344DDA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16E-3792-4293-BE5C-C941F459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E0C-D735-4D79-A09A-E057B98C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E6B-3FB4-4085-AD07-2AA8D57B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1AF-4318-48E0-A98A-F467BEC3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CDF-3E80-4F43-9B8E-689DD9C0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283-C5CF-4F14-B1C0-7CDF3301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4AF4-E6B3-47C7-9184-ED667CCA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317-D8F1-48FB-8279-E817305A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6B8-E86D-4D00-B443-64EB151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BFD9DB-EAAF-41F3-AFE4-780E14FAD2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ykziiHpyuo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752480"/>
            <a:ext cx="6476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BAT…understand, through practice, the importance and influence of detail in wri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64767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BAT…understand, through practice, the importance and influence of detail in wri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the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“Explode the Moment,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hat kind of details can you ad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hat is the most interesting P.O.V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hat images or sensory details are most powerfu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685800"/>
            <a:ext cx="7772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etr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14 lines ____/ 20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, and correctly punctuated____/ 20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poetic voice ___/ 10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four of the following ___/ 50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nthropo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ensory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njamb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hyme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- FRIDAY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1:59:26Z</dcterms:created>
  <dc:creator>Administrator</dc:creator>
  <dc:description/>
  <dc:language>en-US</dc:language>
  <cp:lastModifiedBy>Nick Chanese</cp:lastModifiedBy>
  <dcterms:modified xsi:type="dcterms:W3CDTF">2010-09-26T20:53:23Z</dcterms:modified>
  <cp:revision>6</cp:revision>
  <dc:subject/>
  <dc:title>Slide 1</dc:title>
</cp:coreProperties>
</file>